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E62-0D49-4BC4-B82A-275DC743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E0E-8201-4DA4-B78F-E00578A7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099-75DD-448C-8946-608CAA64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A6C-C383-4F1D-83F7-216E30F7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3586-5740-458B-9573-0FEB403C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9A2-8991-431C-BD59-992F32B5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2CAB-0988-4DC9-BD41-7EA341F4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0639-3506-4484-AB3E-49F8C765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E44C-DF3B-4797-AE85-BD6DB9A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94C7-703A-4B54-9BFF-9A522BFE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C1F0-F121-43E2-A0B9-19ECEEC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D58-82E3-45F9-BB64-C5B001A1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5C2F-C095-4F2B-97A5-4A4935A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DBBB-D04E-442D-AA1E-39740C9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8B2E-9C78-4A4C-8807-BF1CB71C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348F-1B7D-48F3-B6D3-840BA8F8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D105-67BF-42B1-A011-22D685DE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DFC-7BA0-4930-A390-EA77922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947-DD24-4FE1-B2E1-8C66A2AB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825-7D73-45D9-8282-F79FCE86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696-6074-474A-93A7-A2C4C56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4A0-6DBC-4CD7-B623-C752E86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E50-8FEA-48A7-8E0E-2CD85416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B40-B7EC-4F55-BB02-CCF38D9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762-1763-4B6D-8C0D-48E0BE0197C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3897-3A15-469B-BE8C-29E652E3E3B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Times New Roman"/>
              </a:rPr>
              <a:t>(Inheritance)</a:t>
            </a:r>
            <a:endParaRPr b="0" lang="en-US" sz="72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Times New Roman"/>
              </a:rPr>
              <a:t>Genetics</a:t>
            </a:r>
            <a:endParaRPr b="0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Phenotype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what the trait looks like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  Tall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Genetic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the study of  how parents pass on their traits to their children 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53000" y="2909880"/>
          <a:ext cx="381312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2909880"/>
                    <a:ext cx="38131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Allele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one of two or more alternative forms of a gene (one letter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Homozygou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someone who receives the same allele from both parents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TT, tt</a:t>
            </a: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Heterozygou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6633"/>
                </a:solidFill>
                <a:latin typeface="Times New Roman"/>
              </a:rPr>
              <a:t>someone who receives different alleles from each parent</a:t>
            </a:r>
            <a:endParaRPr b="0" lang="en-US" sz="4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Tt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Dominant Trait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trait that is stronger than anoth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: tall (T)  is dominant to short (t)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53000" y="2452680"/>
          <a:ext cx="381312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2452680"/>
                    <a:ext cx="381312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Recessive Trait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rait that is weaker than anoth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: short (t) is recessive to tall (T)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53000" y="1995480"/>
          <a:ext cx="381312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1995480"/>
                    <a:ext cx="381312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Combination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Homozygous Dominant (TT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996633"/>
                </a:solidFill>
                <a:latin typeface="Times New Roman"/>
              </a:rPr>
              <a:t>(aka pure Dominant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Homozygous Recessive (tt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996633"/>
                </a:solidFill>
                <a:latin typeface="Times New Roman"/>
              </a:rPr>
              <a:t>(aka pure recessive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Heterozygous (Tt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996633"/>
                </a:solidFill>
                <a:latin typeface="Times New Roman"/>
              </a:rPr>
              <a:t>(aka hybrid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Genotype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the alleles that a person receives (the letters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  TT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21:37:16Z</dcterms:created>
  <dc:creator>Plano I.S.D.</dc:creator>
  <dc:description/>
  <dc:language>en-US</dc:language>
  <cp:lastModifiedBy>Plano ISD</cp:lastModifiedBy>
  <cp:lastPrinted>1999-03-14T21:36:08Z</cp:lastPrinted>
  <dcterms:modified xsi:type="dcterms:W3CDTF">2004-11-16T14:18:31Z</dcterms:modified>
  <cp:revision>15</cp:revision>
  <dc:subject/>
  <dc:title>Chapter 7</dc:title>
</cp:coreProperties>
</file>